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7AF-2739-43E7-86A5-AE6B92C26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F7F-6024-4B5C-89D3-6D66ECAED0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A2F-ABB2-411B-AF07-C675A87A1B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D94-8F07-4A30-9B87-F56D0F0A3B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E1C0-31B9-4AB1-AAD8-45831E3242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9BB6-D502-4D50-818F-C8C2A6983A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26DD-5C3E-4BA5-BE5B-A30A2E1A3B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C654-A856-44E8-9783-1E269391EF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E6E-C691-4823-B8C1-CB44B580A9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73F-4B5B-4E3F-8C85-17A7C7EC17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278-7652-46CB-8A1E-CC0DF0D26A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5F0-7920-4BB2-8E50-7B522EE123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66F9-D001-4A1C-9101-448C57563D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FE6E-215E-429D-938F-7679E57BC1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40B-06B0-48C8-9E0D-8EABB2BF17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10C-0384-42E7-B9DA-7539FE6D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01B-5BE3-4B53-AFF7-433373F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456-935C-4195-A1B0-184DEDD7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A69-2019-43EB-BA7C-FC34A78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897-929F-4A2C-9FAF-D374FA2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BE3-189D-46A7-8DBD-C37DA084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237-48BC-48AC-829D-0B1D7CC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9C4-800D-43D4-8A36-9A832D06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183-4324-4D6C-96EF-E41877AD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4C4-B117-493A-817E-34374DB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D4C-FD4F-4C2C-8022-8D6347D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525-8B02-4B95-8ABE-B5FD863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88E-444B-424C-844F-627710FD1596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" TargetMode="External"/><Relationship Id="rId2" Type="http://schemas.openxmlformats.org/officeDocument/2006/relationships/hyperlink" Target="http://nationalgeographic.com/portal/site/kids" TargetMode="External"/><Relationship Id="rId3" Type="http://schemas.openxmlformats.org/officeDocument/2006/relationships/hyperlink" Target="http://www.nationalgeographic.com/xpeditions/lesson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hapter 6 GEOGRAPHY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Elementary  Social Studi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 Practical Guid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2819520" y="1371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Geography Software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age 20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2" name="Picture 2" descr="C:\Program Files\Microsoft Office\MEDIA\CAGCAT10\j0297749.wmf"/>
          <p:cNvPicPr/>
          <p:nvPr/>
        </p:nvPicPr>
        <p:blipFill>
          <a:blip r:embed="rId1"/>
          <a:stretch/>
        </p:blipFill>
        <p:spPr>
          <a:xfrm>
            <a:off x="2819520" y="1676520"/>
            <a:ext cx="527976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Map Skill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ystematic, explicit instruction; Page 203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Various resources:  </a:t>
            </a: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Home Depot, Cracker Barrel, online, etc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Mapmaking; Page 206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13 colonies ziploc map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ample; peanut butter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dough map of Florida; My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Education Lab video- Salt Maps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</a:rPr>
              <a:t>13 Colonies Song: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Cambria"/>
              </a:rPr>
              <a:t>Sung to the tune of “Yankee Doodle”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Virginia, Georgia, Delaware, and North Carolina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Massachusetts, Maryland and South Carolina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Pennsylvania, New York!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New Hampshire and New Jersey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Rhode Island and Connecticut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These were the thirteen colonies!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5" name="Picture 5" descr="IMG_2635.JPG"/>
          <p:cNvPicPr/>
          <p:nvPr/>
        </p:nvPicPr>
        <p:blipFill>
          <a:blip r:embed="rId1"/>
          <a:stretch/>
        </p:blipFill>
        <p:spPr>
          <a:xfrm>
            <a:off x="5791320" y="24382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1: Use physical and political/cultural maps to locate places in Florida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    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2: Identify key elements (compass rose, cardinal directions, title, key/legend with symbols) of maps and globes 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3: Construct a basic map using key elements including cardinal directions and map symbol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4: Identify a variety of physical features using a map and glob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5: Locate on maps and globes the student's local community, Florida, the Atlantic Ocean, and the Gulf of Mexico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6: Describe how location, weather, and physical environment affect the way people live in our community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1: Use different types of maps (political, physical, and thematic) to identify map element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2: Using maps and globes, locate the student's hometown, Florida, and North America, and locate the state capital and the national capital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3: Label on a map or globe the continents, oceans, Equator, Prime Meridian, North and South Pole.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4: Use a map to locate the countries in North America (Canada, United States, Mexico, and the Caribbean Islands)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1: Identify physical features of Florida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2: Locate and label cultural features on a Florida map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3: Explain how weather impacts Florida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4: Interpret political and physical maps using map elements (title, compass rose, cardinal directions, intermediate directions, symbols, legend, scale, longitude, latitude).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What is Geography?         1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Geography defined:  the study of the Earth’s surface, atmosphere and people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able 6.1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What does the geographically informed person know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National Geographic Society scope and sequenc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K-1:  personal/loca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2-3:  local/state; show student sampl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3-5:  state/U.S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Look at the textbook samples: find geography related skill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p. 200 – On Your Own Activity 6.2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Geography Websites         2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1"/>
              </a:rPr>
              <a:t>www.nationalgeographic.com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mywonderfulworld.org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2"/>
              </a:rPr>
              <a:t>http://nationalgeographic.com/portal/site/kid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3"/>
              </a:rPr>
              <a:t>www.nationalgeographic.com/xpeditions/lesson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ttp://www.kidsgeo.com/index.php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ttp://www.weeklyreader.com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5 “Basic” Themes of Geography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.186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L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H/E  I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e samples!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Online Geography Quizze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eduplace.com/geone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nationalgeographic.com/geobe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funbrain.com/wher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lizardpoint.com/fun/quizhttp://www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kidsgeo.com/index.php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Activ Board Sample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lip Charts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Map &amp; Globe Skills sample; Grade 2  (GA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aire’s Hurricane sampl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Making Geography Engaging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You tell me.  (P. 193-196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ow did they make the following lessons engaging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Where Born: Human Migration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chool’s Location: Land Usage and Plac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Neighborhood Services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andy Bars to Pizza Toppings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Webpage"/>
          <p:cNvSpPr/>
          <p:nvPr/>
        </p:nvSpPr>
        <p:spPr>
          <a:xfrm>
            <a:off x="6934320" y="4419720"/>
            <a:ext cx="1352520" cy="1981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Trade Books 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nk of books that you know that can take your class to faraway places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hare with a partne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aried genres:  RF, BIO., NF, Poetry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Literature Circle Role: Travel Trace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mbria"/>
              </a:rPr>
              <a:t>Masai and I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, Sadako and the Thousand Paper Cranes, Roberto Clemente, Bill and Pete Go Down the Nile, The True Story of Pocahontas, GOT Geography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ALL 2006 073.jpg"/>
          <p:cNvPicPr/>
          <p:nvPr/>
        </p:nvPicPr>
        <p:blipFill>
          <a:blip r:embed="rId1"/>
          <a:stretch/>
        </p:blipFill>
        <p:spPr>
          <a:xfrm rot="6118800">
            <a:off x="113040" y="1340280"/>
            <a:ext cx="4867200" cy="364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arch-May 2007 079.jpg"/>
          <p:cNvPicPr/>
          <p:nvPr/>
        </p:nvPicPr>
        <p:blipFill>
          <a:blip r:embed="rId2"/>
          <a:stretch/>
        </p:blipFill>
        <p:spPr>
          <a:xfrm rot="20707200">
            <a:off x="4889520" y="3049560"/>
            <a:ext cx="3871800" cy="289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497920" y="76212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Roberto Clemente story wheel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372120" y="64771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Mexican Mariachi Band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21:59:50Z</dcterms:created>
  <dc:creator>Lee-Anne</dc:creator>
  <dc:description/>
  <dc:language>en-US</dc:language>
  <cp:lastModifiedBy>testuser</cp:lastModifiedBy>
  <dcterms:modified xsi:type="dcterms:W3CDTF">2009-03-18T15:06:34Z</dcterms:modified>
  <cp:revision>19</cp:revision>
  <dc:subject/>
  <dc:title>Chapter 6 GEOGRAPHY</dc:title>
</cp:coreProperties>
</file>